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31EBF-5D9C-4DDD-856A-27E3CC3D0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C473C-D8BE-4F61-B219-4546E19A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FE24E-D2B8-4264-9B4B-262E3A041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85327-4D3C-4DDB-86AE-2875F7879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D7A3D-1D0E-4B69-BA8C-57FC04D0E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C1F8E-FF9F-4E73-A38F-9975BF8F4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75328-2D2C-40B5-BFC8-6F8E2264B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CC289-97C6-4C5D-87AA-D44A927DF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1C6D0-6486-4FD9-AFAC-A8E55BEDB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17C3D-9495-484D-A617-FA260F107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FFBC-0B65-409A-A31F-FE4259372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85FE-DCAD-4858-B9E6-A13E7088B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ED9A-6C67-4524-8D9F-5207DED13014}"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27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River Featur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aterfalls</a:t>
            </a:r>
            <a:endParaRPr b="0" lang="en-US" sz="4400" spc="-1" strike="noStrike">
              <a:solidFill>
                <a:srgbClr val="000000"/>
              </a:solidFill>
              <a:latin typeface="Calibri"/>
            </a:endParaRPr>
          </a:p>
        </p:txBody>
      </p:sp>
      <p:pic>
        <p:nvPicPr>
          <p:cNvPr id="59" name="Picture 2" descr="http://cornellbiochem.wikispaces.com/file/view/649px-WaterfallCreationDiagram.svg.png/139677313/649px-WaterfallCreationDiagram.svg.png"/>
          <p:cNvPicPr/>
          <p:nvPr/>
        </p:nvPicPr>
        <p:blipFill>
          <a:blip r:embed="rId1"/>
          <a:stretch/>
        </p:blipFill>
        <p:spPr>
          <a:xfrm>
            <a:off x="0" y="1523880"/>
            <a:ext cx="9144000" cy="493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43" name=""/>
          <p:cNvSpPr txBox="1"/>
          <p:nvPr/>
        </p:nvSpPr>
        <p:spPr>
          <a:xfrm>
            <a:off x="457200" y="1599840"/>
            <a:ext cx="8229600" cy="246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locking Spurs</a:t>
            </a:r>
            <a:r>
              <a:rPr b="0" lang="en-US" sz="2800" spc="-1" strike="noStrike">
                <a:solidFill>
                  <a:srgbClr val="000000"/>
                </a:solidFill>
                <a:latin typeface="Calibri"/>
              </a:rPr>
              <a:t> - As the river cuts its deep V-shaped valley in its upper course, it follows the path of the easies trock to erod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us it tends to wind its way along, leaving the more resistant areas of rock as interlocking spurs.</a:t>
            </a:r>
            <a:endParaRPr b="0" lang="en-US" sz="2800" spc="-1" strike="noStrike">
              <a:solidFill>
                <a:srgbClr val="000000"/>
              </a:solidFill>
              <a:latin typeface="Calibri"/>
            </a:endParaRPr>
          </a:p>
        </p:txBody>
      </p:sp>
      <p:pic>
        <p:nvPicPr>
          <p:cNvPr id="44" name="Picture 2" descr="http://content.swgfl.org.uk/rivers/images/flashimages/valley.gif"/>
          <p:cNvPicPr/>
          <p:nvPr/>
        </p:nvPicPr>
        <p:blipFill>
          <a:blip r:embed="rId1"/>
          <a:stretch/>
        </p:blipFill>
        <p:spPr>
          <a:xfrm>
            <a:off x="2771640" y="3797280"/>
            <a:ext cx="3348000" cy="30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anders</a:t>
            </a:r>
            <a:r>
              <a:rPr b="0" lang="en-US" sz="2400" spc="-1" strike="noStrike">
                <a:solidFill>
                  <a:srgbClr val="000000"/>
                </a:solidFill>
                <a:latin typeface="Calibri"/>
              </a:rPr>
              <a:t> - Meanders occur in the mid course and lower course of the river, where it is beginning to cut laterally as it gets closer to base lev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ders are basically bends in the river, where the faster water on the outside of the bend has cut into the bank, eroding it and creating a </a:t>
            </a:r>
            <a:r>
              <a:rPr b="1" lang="en-US" sz="2400" spc="-1" strike="noStrike">
                <a:solidFill>
                  <a:srgbClr val="000000"/>
                </a:solidFill>
                <a:latin typeface="Calibri"/>
              </a:rPr>
              <a:t>river cliff</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same time the slow moving water on the inside of the bend deposits its load, building up a shallow </a:t>
            </a:r>
            <a:r>
              <a:rPr b="1" lang="en-US" sz="2400" spc="-1" strike="noStrike">
                <a:solidFill>
                  <a:srgbClr val="000000"/>
                </a:solidFill>
                <a:latin typeface="Calibri"/>
              </a:rPr>
              <a:t>slip-off slop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ders migrate downstream as they cut through the valley s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reates a line of parallel cliffs along the sides of the valle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http://canarygeog.canaryzoo.com/Geog1/meanders.jpeg"/>
          <p:cNvPicPr/>
          <p:nvPr/>
        </p:nvPicPr>
        <p:blipFill>
          <a:blip r:embed="rId1"/>
          <a:stretch/>
        </p:blipFill>
        <p:spPr>
          <a:xfrm>
            <a:off x="2611440" y="0"/>
            <a:ext cx="4392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x-Bow Lakes</a:t>
            </a:r>
            <a:r>
              <a:rPr b="0" lang="en-US" sz="2600" spc="-1" strike="noStrike">
                <a:solidFill>
                  <a:srgbClr val="000000"/>
                </a:solidFill>
                <a:latin typeface="Calibri"/>
              </a:rPr>
              <a:t> - In the lower course of the river meanders can become so pronounced that they can form ox-bow lak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 the lower course the rapid lateral erosion cuts into the neck of the meander, narrowing it considerabl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ntually the force of the river breaks through the neck, and as this is the easiest way for the water to go, the old meander is left without any significant amount of water flowing through i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ickly the river deposits material along the side of its new course, which completely block off the old </a:t>
            </a:r>
            <a:r>
              <a:rPr b="1" lang="en-US" sz="2600" spc="-1" strike="noStrike">
                <a:solidFill>
                  <a:srgbClr val="000000"/>
                </a:solidFill>
                <a:latin typeface="Calibri"/>
              </a:rPr>
              <a:t>meander</a:t>
            </a:r>
            <a:r>
              <a:rPr b="0" lang="en-US" sz="2600" spc="-1" strike="noStrike">
                <a:solidFill>
                  <a:srgbClr val="000000"/>
                </a:solidFill>
                <a:latin typeface="Calibri"/>
              </a:rPr>
              <a:t>, creating an ox-bow lak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Oxbow Lake</a:t>
            </a:r>
            <a:endParaRPr b="0" lang="en-US" sz="4400" spc="-1" strike="noStrike">
              <a:solidFill>
                <a:srgbClr val="000000"/>
              </a:solidFill>
              <a:latin typeface="Calibri"/>
            </a:endParaRPr>
          </a:p>
        </p:txBody>
      </p:sp>
      <p:pic>
        <p:nvPicPr>
          <p:cNvPr id="51" name="Picture 2" descr="http://www.scioly.org/w/images/1/1a/Ox-bow_lake.gif"/>
          <p:cNvPicPr/>
          <p:nvPr/>
        </p:nvPicPr>
        <p:blipFill>
          <a:blip r:embed="rId1"/>
          <a:stretch/>
        </p:blipFill>
        <p:spPr>
          <a:xfrm>
            <a:off x="14400" y="2060640"/>
            <a:ext cx="914400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shaped valleys</a:t>
            </a:r>
            <a:r>
              <a:rPr b="0" lang="en-US" sz="3200" spc="-1" strike="noStrike">
                <a:solidFill>
                  <a:srgbClr val="000000"/>
                </a:solidFill>
                <a:latin typeface="Calibri"/>
              </a:rPr>
              <a:t> - In the upper course of the river, it cuts rapidly downwards, as the river puts almost all of its energy towards cutting down to base leve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uses the most distinctive river feature, the V-shaped valle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cks and other material are washed into the river from the steep valley sides during times of heavy rainfall, adding to the material being carried by the ri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V-Shaped Valley</a:t>
            </a:r>
            <a:endParaRPr b="0" lang="en-US" sz="4400" spc="-1" strike="noStrike">
              <a:solidFill>
                <a:srgbClr val="000000"/>
              </a:solidFill>
              <a:latin typeface="Calibri"/>
            </a:endParaRPr>
          </a:p>
        </p:txBody>
      </p:sp>
      <p:pic>
        <p:nvPicPr>
          <p:cNvPr id="55" name="Picture 2" descr="http://cgz.e2bn.net/e2bn/leas/c99/schools/cgz/accounts/staff/rchambers/GeoBytes%20GCSE%20Blog%20Resources/Images/Rivers/V-shapedvalley.jpg"/>
          <p:cNvPicPr/>
          <p:nvPr/>
        </p:nvPicPr>
        <p:blipFill>
          <a:blip r:embed="rId1"/>
          <a:stretch/>
        </p:blipFill>
        <p:spPr>
          <a:xfrm>
            <a:off x="971640" y="1197000"/>
            <a:ext cx="7272360" cy="545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Erosional Features</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aterfalls are perhaps the most spectacular erosional feature of a river.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y primarily occur in the upper course of the river.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ften a waterfall will form where a band of harder rock lies over a softer one.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 the river flows over the edge of the harder, more resistant rock, into its plunge pool, it erodes away the softer rock below, creating an overhang.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nce the overhang is big enough the whole thing collapses due to gravity and its own weight.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whole process then occurs agai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means that over time waterfalls will move backwards up the valley, leaving a steep sided gorge in front of them.</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1:15:52Z</dcterms:created>
  <dc:creator>Dell_02</dc:creator>
  <dc:description/>
  <dc:language>en-US</dc:language>
  <cp:lastModifiedBy>Dell_02</cp:lastModifiedBy>
  <dcterms:modified xsi:type="dcterms:W3CDTF">2011-01-26T22:31:44Z</dcterms:modified>
  <cp:revision>6</cp:revision>
  <dc:subject/>
  <dc:title>Presentación de PowerPoint</dc:title>
</cp:coreProperties>
</file>